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5C149-4FC4-4228-ABEC-87B92A210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FE51F-219E-4E1F-9751-AFAFEF3A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B21EC-AE8C-4ADF-AF16-1494260FF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D5ECA-4BCD-4BEB-A004-A1F12D668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B4163-90DA-4F40-AA61-D5C8F5E92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E2D13-9F5A-4381-88CF-04F6063A4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E1DD6-FC5B-4E98-8574-AD9A12C55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5E6C3-5D5D-4199-B707-4A24556DB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9462A-2789-43FC-854D-077B59CE7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00738-021C-43A3-A330-717E752B5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265B2-888F-4788-987D-F10C32F5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279B3-A845-4C8D-904D-CB0748F7F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10AF3-B8FE-44C0-BB6B-63B6D554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5BFC8-D39B-4C24-A09E-3EED128E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F3256-2E37-4A2E-A1D4-E9A92C82B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FC7E3-4543-4BA9-9F05-F2789235F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107F3-3BF7-4316-8DC3-A93963439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67DC6-853C-484F-972C-55AE006C0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949A6-22B1-452F-92C7-FEDF54EB2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10088-99A8-417D-9A7D-0D981CBFF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FDE78-B278-479D-B674-22018D9A9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19312-25ED-4880-BDD4-3DDDEE81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5FB06-485C-48A3-8DDB-E81942AD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EE4D2-24C0-44B5-BF00-D2C888E2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7d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6CB9B-84E5-4426-BDE4-90C1293F2A61}" type="slidenum">
              <a:rPr b="0" lang="en-US" sz="1200" spc="-1" strike="noStrike">
                <a:solidFill>
                  <a:srgbClr val="00007d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EABB0-F32F-48D4-84CF-BF0D47730E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AICT5 – PM Scenario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Scenario familiarisation</a:t>
            </a:r>
            <a:endParaRPr b="0" lang="en-US" sz="3400" spc="-1" strike="noStrike">
              <a:solidFill>
                <a:srgbClr val="00007d"/>
              </a:solidFill>
              <a:latin typeface="Arial"/>
            </a:endParaRPr>
          </a:p>
          <a:p>
            <a:pPr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Set groups</a:t>
            </a:r>
            <a:endParaRPr b="0" lang="en-US" sz="3400" spc="-1" strike="noStrike">
              <a:solidFill>
                <a:srgbClr val="00007d"/>
              </a:solidFill>
              <a:latin typeface="Arial"/>
            </a:endParaRPr>
          </a:p>
          <a:p>
            <a:pPr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Identify stakeholders.</a:t>
            </a:r>
            <a:endParaRPr b="0" lang="en-US" sz="34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3</a:t>
            </a:r>
            <a:r>
              <a:rPr b="0" lang="en-US" sz="4400" spc="-1" strike="noStrike" baseline="30000">
                <a:solidFill>
                  <a:srgbClr val="00007d"/>
                </a:solidFill>
                <a:latin typeface="Arial"/>
              </a:rPr>
              <a:t>rd</a:t>
            </a: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 meeting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Establish a plan and identify deadlines to achieve the clients requirements 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Look at AICT 5.6 “stages” to identify the milestones 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Look at AICT 5.6 “planning” to consider level of detail required.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Could split each group in half and each produce plan, then meet later to discuss it etc.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4</a:t>
            </a:r>
            <a:r>
              <a:rPr b="0" lang="en-US" sz="4400" spc="-1" strike="noStrike" baseline="30000">
                <a:solidFill>
                  <a:srgbClr val="00007d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 and subsequent meetings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Look at the “team work” webpage of the scenario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Initial meeting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Set key discussion points: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Assign group roles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Create key documents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rocedures for storing and protecting information the group produces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Tracking and monitoring of progress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Group roles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Individually, you are all project managers.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Within the group, you are NOT!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Assign roles: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Project Leader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Manage the project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May assign tasks and roles to subordinates.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Team members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Undertake the tasks that PL has assigned to them.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Update minutes and decide upon action points, deadlines etc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56360" y="3068640"/>
            <a:ext cx="792000" cy="1368360"/>
          </a:xfrm>
          <a:custGeom>
            <a:avLst/>
            <a:gdLst>
              <a:gd name="textAreaLeft" fmla="*/ 0 w 792000"/>
              <a:gd name="textAreaRight" fmla="*/ 285840 w 79200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164360" y="2276640"/>
            <a:ext cx="147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 a record of how the PL was chosen – you may want to refer back to it in the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020000" y="404640"/>
            <a:ext cx="1657440" cy="936720"/>
          </a:xfrm>
          <a:prstGeom prst="wedgeRectCallout">
            <a:avLst>
              <a:gd name="adj1" fmla="val 28833"/>
              <a:gd name="adj2" fmla="val 205425"/>
            </a:avLst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strengths did they ha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Key Documents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980720"/>
            <a:ext cx="8362800" cy="40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Create the following as templates: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Examples can be found in the AICT 5 Standard Business Documents folder.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Keep a record of decisions you have made in creating the design, layout, etc.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Update minutes and decide upon action points, deadlines etc.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No prototyping needed at this stage!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Group Organisation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3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Decide upon a standard way of working that the group will follow regarding the storing and protecting of information the group produces.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Decide how you will track and monitor the progress of the overall group and individuals.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Update minutes and decide upon action points, deadlines etc.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4400" spc="-1" strike="noStrike" baseline="30000">
                <a:solidFill>
                  <a:srgbClr val="00007d"/>
                </a:solidFill>
                <a:latin typeface="Arial"/>
              </a:rPr>
              <a:t>nd</a:t>
            </a: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 Meeting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Understanding the Client Requirements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Identify stakeholders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Understanding the Client Requirements</a:t>
            </a:r>
            <a:endParaRPr b="0" lang="en-US" sz="4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3628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Carefully read through the scenario and requirements web pages. 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Identify the key points.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Someone in each group needs to record the minutes of the meeting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These can be written or recorded. 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MUST be typed up later.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Identify stakeholders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980720"/>
            <a:ext cx="8291520" cy="39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Read through pages 138-141 Edexcel GCE in Applied ICT A2 Single Award.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Discuss scenario to identify: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Stakeholders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What interest they have in the organisation?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If you haven’t already discussed this, “how will they be affected?”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Minutes of the discussion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2T13:34:05Z</dcterms:created>
  <dc:creator>H S Tamber</dc:creator>
  <dc:description/>
  <dc:language>en-US</dc:language>
  <cp:lastModifiedBy>HSTamber</cp:lastModifiedBy>
  <dcterms:modified xsi:type="dcterms:W3CDTF">2009-09-29T20:16:11Z</dcterms:modified>
  <cp:revision>52</cp:revision>
  <dc:subject/>
  <dc:title>Slide 1</dc:title>
</cp:coreProperties>
</file>